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4E0-7BC1-42E0-8F9E-E37145F90C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тудентка 4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идоркина Васил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16B7-9DC8-4D1F-A7BD-4BD377504A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Georgia"/>
              </a:rPr>
              <a:t>Не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атмосферный воздух, энергия вет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ды Мирового оке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C17E-E2C7-47E2-BCEC-7CC213625E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162D-6789-436F-99D2-779225F532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минерально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ельскохозяйств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ырь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EAA0-54B2-42B1-9E19-19AD4CBEE8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DA54-397E-4E3C-80A5-BDB4B0C294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3CDC-6C90-4E40-A70E-BD21BA87E4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50FA-F4AB-4702-B553-07B850FBC8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9138-A1DE-4C92-A377-812CBBAAFF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FB9B-B11B-472B-B263-2D4AEEEFDA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напр., охрана водоема от загрязнения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=&gt;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охрана животных, обитающих в н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D70F-2765-475C-934A-662D2C6C56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исок использованной лит-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D%EA%EE%EB%EE%E3%E8%F7%E5%F1%EA%E8%E9_%EA%F0%E8%E7%E8%F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5875-26BA-4DA6-B6D3-03B7663540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6E67-882A-4F8F-8595-BF888996D9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Экологический кризис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D937-53A6-4778-95BB-03F129A42C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088C-C646-4CEE-9BE7-00DB03766A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D2BF-4236-458E-B2A0-3D1DC3F183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D3C3-C244-4E8F-8BFC-FBDCA48F76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46A8-6E95-4049-9361-FB17866C51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F7FE-8E4E-4EF0-BDAF-8659B552A3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B715-EA63-4E74-AA9D-E4E48E9489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631-4687-4A14-93F3-BDB5AC49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38C-6C39-4A5F-A48B-5D531721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969-285A-4EC3-B0A9-B19CFEE6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3A6-6832-4650-AF5F-F4529894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249A-9C81-46F5-8B9F-273DEC82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5CC73-08EC-42E5-AE4E-72F855B9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22F43-22C5-4196-9EA9-5116902B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20228-5F62-4A33-9258-6EC4DA6A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B15C9-C1AC-45F1-98EB-AE8680DD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AE142-C8A9-412D-BEE3-83DC6F13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9A92B-D276-4C40-B6C9-FDDF6F8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D0E-1347-4E51-A3E0-C030BDB2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4E8BC-0A0A-45D9-AD83-BEA73C8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A72C4-1ED9-464A-AFC9-99FB51D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C2EC5-649D-4A8C-AC07-EDBB1E2B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E283F-5E6F-48B7-9D0B-D8AC0AE0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FC980-B932-494D-90C0-A88D59BA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493-859B-450B-B437-023AEF08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CCE-CDF5-4DAF-A22E-E636675C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EFE-9B02-4D53-9153-87B2DA93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E4A-C146-48C4-B357-B9D55D06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1F7-58D4-483C-AC7C-50A61DA2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9E9-D74E-450C-A4C4-7AAAD8B4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635-1D07-4A54-BE1A-A115C3F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57C0-4E86-488C-8A3D-8C257756F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D10D-D25D-4224-97AA-5FB236529F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D%EA%EE%EB%EE%E3%E8%F7%E5%F1%EA%E8%E9_%EA%F0%E8%E7%E8%F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удентка 41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доркина Васил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z_"/>
          <p:cNvPicPr/>
          <p:nvPr/>
        </p:nvPicPr>
        <p:blipFill>
          <a:blip r:embed="rId1"/>
          <a:stretch/>
        </p:blipFill>
        <p:spPr>
          <a:xfrm>
            <a:off x="990720" y="1447920"/>
            <a:ext cx="4952880" cy="3711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cc66"/>
                </a:solidFill>
                <a:latin typeface="Georgia"/>
              </a:rPr>
              <a:t>Не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атмосферный воздух, энергия ветр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ды Мирового океан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l24"/>
          <p:cNvPicPr/>
          <p:nvPr/>
        </p:nvPicPr>
        <p:blipFill>
          <a:blip r:embed="rId1"/>
          <a:stretch/>
        </p:blipFill>
        <p:spPr>
          <a:xfrm>
            <a:off x="2666880" y="388620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ic1_1"/>
          <p:cNvPicPr/>
          <p:nvPr/>
        </p:nvPicPr>
        <p:blipFill>
          <a:blip r:embed="rId1"/>
          <a:stretch/>
        </p:blipFill>
        <p:spPr>
          <a:xfrm>
            <a:off x="228600" y="190512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их минеральное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ельскохозяйств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ырь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helovek-i-priroda"/>
          <p:cNvPicPr/>
          <p:nvPr/>
        </p:nvPicPr>
        <p:blipFill>
          <a:blip r:embed="rId1"/>
          <a:stretch/>
        </p:blipFill>
        <p:spPr>
          <a:xfrm>
            <a:off x="4648320" y="3733920"/>
            <a:ext cx="4238640" cy="28288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mage053"/>
          <p:cNvPicPr/>
          <p:nvPr/>
        </p:nvPicPr>
        <p:blipFill>
          <a:blip r:embed="rId1"/>
          <a:stretch/>
        </p:blipFill>
        <p:spPr>
          <a:xfrm>
            <a:off x="152280" y="228600"/>
            <a:ext cx="4419720" cy="31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cture"/>
          <p:cNvPicPr/>
          <p:nvPr/>
        </p:nvPicPr>
        <p:blipFill>
          <a:blip r:embed="rId2"/>
          <a:stretch/>
        </p:blipFill>
        <p:spPr>
          <a:xfrm>
            <a:off x="4724280" y="53352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nteriery_falls085"/>
          <p:cNvPicPr/>
          <p:nvPr/>
        </p:nvPicPr>
        <p:blipFill>
          <a:blip r:embed="rId1"/>
          <a:stretch/>
        </p:blipFill>
        <p:spPr>
          <a:xfrm>
            <a:off x="3429000" y="300996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4800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skazy5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2600" spc="-1" strike="noStrike">
                <a:solidFill>
                  <a:srgbClr val="65c8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(напр., охрана водоема от загрязнения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&gt;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охрана животных, обитающих в нем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water_feature_infinity_pond_lead"/>
          <p:cNvPicPr/>
          <p:nvPr/>
        </p:nvPicPr>
        <p:blipFill>
          <a:blip r:embed="rId1"/>
          <a:stretch/>
        </p:blipFill>
        <p:spPr>
          <a:xfrm>
            <a:off x="2286000" y="15228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Список использованной лит-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c8ff"/>
                </a:solidFill>
                <a:uFillTx/>
                <a:latin typeface="Georgia"/>
                <a:hlinkClick r:id="rId1"/>
              </a:rPr>
              <a:t>http://ru.wikipedia.org/wiki/%DD%EA%EE%EB%EE%E3%E8%F7%E5%F1%EA%E8%E9_%EA%F0%E8%E7%E8%F1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5c8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4280" y="228600"/>
            <a:ext cx="4267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Ekologicheskiy-krizis"/>
          <p:cNvPicPr/>
          <p:nvPr/>
        </p:nvPicPr>
        <p:blipFill>
          <a:blip r:embed="rId1"/>
          <a:stretch/>
        </p:blipFill>
        <p:spPr>
          <a:xfrm>
            <a:off x="228600" y="1143000"/>
            <a:ext cx="4390920" cy="45244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6248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Экологический кризис может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Earth2"/>
          <p:cNvPicPr/>
          <p:nvPr/>
        </p:nvPicPr>
        <p:blipFill>
          <a:blip r:embed="rId1"/>
          <a:stretch/>
        </p:blipFill>
        <p:spPr>
          <a:xfrm>
            <a:off x="5867280" y="914400"/>
            <a:ext cx="3124440" cy="28591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441936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menniyvek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edved"/>
          <p:cNvPicPr/>
          <p:nvPr/>
        </p:nvPicPr>
        <p:blipFill>
          <a:blip r:embed="rId1"/>
          <a:stretch/>
        </p:blipFill>
        <p:spPr>
          <a:xfrm>
            <a:off x="3352680" y="4191120"/>
            <a:ext cx="2590920" cy="24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woollyrb"/>
          <p:cNvPicPr/>
          <p:nvPr/>
        </p:nvPicPr>
        <p:blipFill>
          <a:blip r:embed="rId2"/>
          <a:stretch/>
        </p:blipFill>
        <p:spPr>
          <a:xfrm>
            <a:off x="152280" y="2819520"/>
            <a:ext cx="3124440" cy="20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mage001"/>
          <p:cNvPicPr/>
          <p:nvPr/>
        </p:nvPicPr>
        <p:blipFill>
          <a:blip r:embed="rId3"/>
          <a:stretch/>
        </p:blipFill>
        <p:spPr>
          <a:xfrm>
            <a:off x="6019920" y="2438280"/>
            <a:ext cx="2904840" cy="36766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virubka_lesa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3654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1702"/>
          <p:cNvPicPr/>
          <p:nvPr/>
        </p:nvPicPr>
        <p:blipFill>
          <a:blip r:embed="rId1"/>
          <a:stretch/>
        </p:blipFill>
        <p:spPr>
          <a:xfrm>
            <a:off x="20574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ugl (1)"/>
          <p:cNvPicPr/>
          <p:nvPr/>
        </p:nvPicPr>
        <p:blipFill>
          <a:blip r:embed="rId1"/>
          <a:stretch/>
        </p:blipFill>
        <p:spPr>
          <a:xfrm>
            <a:off x="457200" y="3581280"/>
            <a:ext cx="3657600" cy="299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069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0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